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fastcar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F64-8116-4F33-89F0-478A5EE2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657-CB23-4078-AD26-5AAFB225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2D5B-9A59-49B2-B1BB-F0533CFF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719-D7EC-4F73-A09F-8F55E23C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6A3-C119-4CBA-8855-AFC48EB2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DDF-992E-46E4-8583-6FAA06E4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14B-BD05-44B6-85B9-4748E7E2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33E-C895-4133-97D1-09A5798C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812-249D-4D1D-AAD6-608595ED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B7E-8B10-4B41-B2D7-6FBDB6D8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1CB-EED7-422C-B2AC-3531394D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00D-A9AB-4038-A1D5-418AA701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5E9B-C788-4B8D-B8FB-58D466CF9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fastcar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ipdn102.wav"/><Relationship Id="rId8" Type="http://schemas.openxmlformats.org/officeDocument/2006/relationships/audio" Target="../media/fastcar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ipdn102.wav"/><Relationship Id="rId8" Type="http://schemas.openxmlformats.org/officeDocument/2006/relationships/audio" Target="../media/fastcar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fastcar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zipdn102.wav"/><Relationship Id="rId9" Type="http://schemas.openxmlformats.org/officeDocument/2006/relationships/audio" Target="../media/fastcar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17400" y="1428840"/>
                <a:ext cx="61452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146320" y="2298600"/>
                <a:ext cx="447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407200" y="2327400"/>
                <a:ext cx="44892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animMotion origin="layout" path="M 2.22222E-006 8.14815E-006 C 2.22222E-006 8.14815E-006 0.2717 -0.23564 0.5434 -0.47106 E">
                                      <p:cBhvr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66760" y="1353960"/>
                <a:ext cx="7851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565360" y="2306520"/>
                <a:ext cx="492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866960" y="2201760"/>
                <a:ext cx="15271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71600" y="3181320"/>
                <a:ext cx="8096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556240" y="2265480"/>
                <a:ext cx="85392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2080" y="2289240"/>
                <a:ext cx="10335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302520" y="3121200"/>
                <a:ext cx="763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astcar.wav"/>
                                        </p:tgtEl>
                                      </p:cMediaNode>
                                    </p:audio>
                                    <p:animMotion origin="layout" path="M 1.11111E-006 -4.44444E-006 C 1.11111E-006 -4.44444E-006 0.28507 -0.21018 0.57014 -0.4199 E">
                                      <p:cBhvr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60280" y="1352520"/>
                <a:ext cx="888372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9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770120" y="2376360"/>
                <a:ext cx="80496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692440" y="2374920"/>
                <a:ext cx="103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71600" y="3181320"/>
                <a:ext cx="8096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969240" y="2355840"/>
                <a:ext cx="4953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892840" y="2343240"/>
                <a:ext cx="1033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310440" y="3135240"/>
                <a:ext cx="8078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astcar.wav"/>
                                        </p:tgtEl>
                                      </p:cMediaNode>
                                    </p:audio>
                                    <p:animMotion origin="layout" path="M 1.11111E-006 -4.44444E-006 C 1.11111E-006 -4.44444E-006 0.28507 -0.21018 0.57014 -0.4199 E">
                                      <p:cBhvr>
                                        <p:cTn id="145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38240" y="1494000"/>
                <a:ext cx="64612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r>
                      <m:t xml:space="preserve">÷</m:t>
                    </m:r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and  16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97160" y="2382840"/>
                <a:ext cx="357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36720" y="2374920"/>
                <a:ext cx="9432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25560" y="3181320"/>
                <a:ext cx="449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443640" y="2419200"/>
                <a:ext cx="4492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astcar.wav"/>
                                        </p:tgtEl>
                                      </p:cMediaNode>
                                    </p:audio>
                                    <p:animMotion origin="layout" path="M 1.11111E-006 -4.44444E-006 C 1.11111E-006 -4.44444E-006 0.28507 -0.21018 0.57014 -0.4199 E">
                                      <p:cBhvr>
                                        <p:cTn id="187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826920" y="1332000"/>
                <a:ext cx="67294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443320" y="2406600"/>
                <a:ext cx="492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071800" y="2249640"/>
                <a:ext cx="13921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038320" y="4202280"/>
                <a:ext cx="121464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888160" y="2403360"/>
                <a:ext cx="4950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364440" y="2308320"/>
                <a:ext cx="944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243480" y="3325680"/>
                <a:ext cx="854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308240" y="3365640"/>
                <a:ext cx="255888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fastcar.wav"/>
                                        </p:tgtEl>
                                      </p:cMediaNode>
                                    </p:audio>
                                    <p:animMotion origin="layout" path="M 1.11111E-006 -4.44444E-006 C 1.11111E-006 -4.44444E-006 0.30417 -0.19236 0.60833 -0.38425 E">
                                      <p:cBhvr>
                                        <p:cTn id="250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41, 2 – 4 #1-18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40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23T13:52:01Z</dcterms:modified>
  <cp:revision>55</cp:revision>
  <dc:subject/>
  <dc:title>Slide 1</dc:title>
</cp:coreProperties>
</file>